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2.png" ContentType="image/png"/>
  <Override PartName="/ppt/media/image21.png" ContentType="image/png"/>
  <Override PartName="/ppt/media/image27.png" ContentType="image/png"/>
  <Override PartName="/ppt/media/image12.wmf" ContentType="image/x-wmf"/>
  <Override PartName="/ppt/media/image7.png" ContentType="image/png"/>
  <Override PartName="/ppt/media/image15.wmf" ContentType="image/x-wmf"/>
  <Override PartName="/ppt/media/image32.png" ContentType="image/png"/>
  <Override PartName="/ppt/media/image28.png" ContentType="image/png"/>
  <Override PartName="/ppt/media/image5.png" ContentType="image/png"/>
  <Override PartName="/ppt/media/image8.jpeg" ContentType="image/jpeg"/>
  <Override PartName="/ppt/media/image30.png" ContentType="image/png"/>
  <Override PartName="/ppt/media/image13.jpeg" ContentType="image/jpeg"/>
  <Override PartName="/ppt/media/image23.png" ContentType="image/png"/>
  <Override PartName="/ppt/media/image9.png" ContentType="image/png"/>
  <Override PartName="/ppt/media/image11.png" ContentType="image/png"/>
  <Override PartName="/ppt/media/image10.png" ContentType="image/png"/>
  <Override PartName="/ppt/media/image4.jpeg" ContentType="image/jpeg"/>
  <Override PartName="/ppt/media/image25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8730-DA0E-47E2-83BF-32604F152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0C1D-5221-4346-B038-640A5D6C6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BD75-7BD1-416D-8534-B9E717F24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A193-0B2F-4267-BF51-91B620E3D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0B09C6-0A8A-4337-B609-32A585CBC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118F06-2F31-41A9-AF84-463589E48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EACDE4-240F-4173-9668-00F4D7F24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119234-3602-4CB2-9EB9-26F0B3A9B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721F44-BA71-4F17-A8D8-8C725FAF5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9E7141-11F7-4A7D-BF6D-1D305E924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62DABF-66F3-4A9C-A71C-EF12C3AB0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35E6-77DB-4B83-9914-B7A244BDA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6A34FA-A9A1-4E22-8321-D73A14E13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5D9592-5846-4616-817F-95A305F5D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F89D0C-BB84-49E5-B0FB-ED226DE0D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1E82D0-5310-4DC5-8750-D4EAF16B3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1345C0-EBDE-4DBE-B78C-8563F6A0F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3A7B-AB36-45AD-9517-5D0071D73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57A0-17CD-4E2D-AE83-6D5A3B7D4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18FE-CEE8-4DEA-A99E-912C0403C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F673-B47C-4ACD-9F5C-D3C6C3781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5E1C-B7E4-438C-B2F1-9477FA5B4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E4EC-EFFF-49BD-9261-3262AA06B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CE15-D1C1-41B5-9CBF-282D610F4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A5B0B-C557-43D2-BE7D-EF41582E5B9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8D417-F68F-4CBC-B6F7-FBB174CB1E1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serp.la.asu.edu/clipart_dir/people2/people2_imag/painter.gif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The Six Traits of Writing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Idea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ca_maze_01" descr=""/>
          <p:cNvPicPr/>
          <p:nvPr/>
        </p:nvPicPr>
        <p:blipFill>
          <a:blip r:embed="rId1"/>
          <a:stretch/>
        </p:blipFill>
        <p:spPr>
          <a:xfrm>
            <a:off x="2514600" y="1295280"/>
            <a:ext cx="1203480" cy="1486080"/>
          </a:xfrm>
          <a:prstGeom prst="rect">
            <a:avLst/>
          </a:prstGeom>
          <a:ln w="0">
            <a:noFill/>
          </a:ln>
        </p:spPr>
      </p:pic>
      <p:pic>
        <p:nvPicPr>
          <p:cNvPr id="126" name="images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467480" y="1371600"/>
            <a:ext cx="1524240" cy="1101600"/>
          </a:xfrm>
          <a:prstGeom prst="rect">
            <a:avLst/>
          </a:prstGeom>
          <a:ln w="0">
            <a:noFill/>
          </a:ln>
        </p:spPr>
      </p:pic>
      <p:pic>
        <p:nvPicPr>
          <p:cNvPr id="127" name="man%20with%20binoculars" descr=""/>
          <p:cNvPicPr/>
          <p:nvPr/>
        </p:nvPicPr>
        <p:blipFill>
          <a:blip r:embed="rId4"/>
          <a:stretch/>
        </p:blipFill>
        <p:spPr>
          <a:xfrm>
            <a:off x="1752480" y="3200400"/>
            <a:ext cx="1600200" cy="1465200"/>
          </a:xfrm>
          <a:prstGeom prst="rect">
            <a:avLst/>
          </a:prstGeom>
          <a:ln w="0">
            <a:noFill/>
          </a:ln>
        </p:spPr>
      </p:pic>
      <p:pic>
        <p:nvPicPr>
          <p:cNvPr id="128" name="csh0060" descr=""/>
          <p:cNvPicPr/>
          <p:nvPr/>
        </p:nvPicPr>
        <p:blipFill>
          <a:blip r:embed="rId5"/>
          <a:stretch/>
        </p:blipFill>
        <p:spPr>
          <a:xfrm>
            <a:off x="7162920" y="2895480"/>
            <a:ext cx="1517400" cy="1981440"/>
          </a:xfrm>
          <a:prstGeom prst="rect">
            <a:avLst/>
          </a:prstGeom>
          <a:ln w="0">
            <a:noFill/>
          </a:ln>
        </p:spPr>
      </p:pic>
      <p:pic>
        <p:nvPicPr>
          <p:cNvPr id="129" name="1955062" descr=""/>
          <p:cNvPicPr/>
          <p:nvPr/>
        </p:nvPicPr>
        <p:blipFill>
          <a:blip r:embed="rId6"/>
          <a:stretch/>
        </p:blipFill>
        <p:spPr>
          <a:xfrm>
            <a:off x="4724280" y="4734000"/>
            <a:ext cx="1776600" cy="2124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0" y="1676520"/>
            <a:ext cx="31240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t to the poi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1600200"/>
            <a:ext cx="251460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int a Pi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3505320"/>
            <a:ext cx="1752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c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343400" y="3505320"/>
            <a:ext cx="3200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your sen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209680" y="5257800"/>
            <a:ext cx="26672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tails over genera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Organiza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12952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ok the reader in with a strong le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hook" descr=""/>
          <p:cNvPicPr/>
          <p:nvPr/>
        </p:nvPicPr>
        <p:blipFill>
          <a:blip r:embed="rId1"/>
          <a:stretch/>
        </p:blipFill>
        <p:spPr>
          <a:xfrm>
            <a:off x="5791320" y="1219320"/>
            <a:ext cx="1257120" cy="5666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28600" y="213372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ep up the p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hare&amp;tortoise_1_lg" descr=""/>
          <p:cNvPicPr/>
          <p:nvPr/>
        </p:nvPicPr>
        <p:blipFill>
          <a:blip r:embed="rId2"/>
          <a:stretch/>
        </p:blipFill>
        <p:spPr>
          <a:xfrm>
            <a:off x="3124080" y="1828800"/>
            <a:ext cx="1752840" cy="10396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0" y="320040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 your rea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102-00149" descr=""/>
          <p:cNvPicPr/>
          <p:nvPr/>
        </p:nvPicPr>
        <p:blipFill>
          <a:blip r:embed="rId3"/>
          <a:stretch/>
        </p:blipFill>
        <p:spPr>
          <a:xfrm>
            <a:off x="2971800" y="3124080"/>
            <a:ext cx="1143000" cy="10479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5410080" y="243828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ather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Image1" descr=""/>
          <p:cNvPicPr/>
          <p:nvPr/>
        </p:nvPicPr>
        <p:blipFill>
          <a:blip r:embed="rId4"/>
          <a:stretch/>
        </p:blipFill>
        <p:spPr>
          <a:xfrm>
            <a:off x="6553080" y="2971800"/>
            <a:ext cx="1258920" cy="13716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648320" y="518148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nk ideas toget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links" descr=""/>
          <p:cNvPicPr/>
          <p:nvPr/>
        </p:nvPicPr>
        <p:blipFill>
          <a:blip r:embed="rId5"/>
          <a:stretch/>
        </p:blipFill>
        <p:spPr>
          <a:xfrm>
            <a:off x="7543800" y="4876920"/>
            <a:ext cx="1076400" cy="11905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228600" y="4495680"/>
            <a:ext cx="3962520" cy="16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ve the reader with something to remember. End with a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ANG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562720"/>
            <a:ext cx="1943280" cy="914400"/>
          </a:xfrm>
          <a:prstGeom prst="irregularSeal2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Voic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0666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er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lug" descr=""/>
          <p:cNvPicPr/>
          <p:nvPr/>
        </p:nvPicPr>
        <p:blipFill>
          <a:blip r:embed="rId1"/>
          <a:stretch/>
        </p:blipFill>
        <p:spPr>
          <a:xfrm>
            <a:off x="1752480" y="762120"/>
            <a:ext cx="1571760" cy="14000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09480" y="32767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 YOU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2438280" y="2895480"/>
            <a:ext cx="1362240" cy="12049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5029200" y="16002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 an expe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istockphoto_740649_scientist" descr=""/>
          <p:cNvPicPr/>
          <p:nvPr/>
        </p:nvPicPr>
        <p:blipFill>
          <a:blip r:embed="rId3"/>
          <a:stretch/>
        </p:blipFill>
        <p:spPr>
          <a:xfrm>
            <a:off x="5486400" y="2286000"/>
            <a:ext cx="1257480" cy="12574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228600" y="46483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 lively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Excited" descr=""/>
          <p:cNvPicPr/>
          <p:nvPr/>
        </p:nvPicPr>
        <p:blipFill>
          <a:blip r:embed="rId4"/>
          <a:stretch/>
        </p:blipFill>
        <p:spPr>
          <a:xfrm>
            <a:off x="685800" y="51814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505320" y="46483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nect with your rea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4343400" y="5257800"/>
            <a:ext cx="1714680" cy="13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Word Choic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2924280" cy="21240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3657600" y="1371600"/>
            <a:ext cx="1542960" cy="16956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5715000" y="1523880"/>
            <a:ext cx="2819520" cy="20764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1676520" y="4572000"/>
            <a:ext cx="1942920" cy="18478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5410080" y="4191120"/>
            <a:ext cx="247680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Sentence Fluenc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5543280" cy="14194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6019920" y="1219320"/>
            <a:ext cx="2419200" cy="11048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228600" y="4038480"/>
            <a:ext cx="1552680" cy="20098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2133720" y="3276720"/>
            <a:ext cx="3905280" cy="21333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5"/>
          <a:stretch/>
        </p:blipFill>
        <p:spPr>
          <a:xfrm>
            <a:off x="6629400" y="2438280"/>
            <a:ext cx="2257560" cy="20671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6"/>
          <a:stretch/>
        </p:blipFill>
        <p:spPr>
          <a:xfrm>
            <a:off x="6172200" y="4724280"/>
            <a:ext cx="270504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Conventions</a:t>
            </a:r>
            <a:br>
              <a:rPr sz="4400"/>
            </a:b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477120" y="914400"/>
            <a:ext cx="2447640" cy="20764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152280" y="762120"/>
            <a:ext cx="2486160" cy="22572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2971800" y="1371600"/>
            <a:ext cx="3171960" cy="18478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304920" y="4191120"/>
            <a:ext cx="2466720" cy="19717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5"/>
          <a:srcRect l="0" t="0" r="50092" b="0"/>
          <a:stretch/>
        </p:blipFill>
        <p:spPr>
          <a:xfrm>
            <a:off x="3124080" y="3657600"/>
            <a:ext cx="2743200" cy="19526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6"/>
          <a:stretch/>
        </p:blipFill>
        <p:spPr>
          <a:xfrm>
            <a:off x="6019920" y="3886200"/>
            <a:ext cx="256212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2T00:45:38Z</dcterms:created>
  <dc:creator>Administrator</dc:creator>
  <dc:description/>
  <dc:language>en-US</dc:language>
  <cp:lastModifiedBy>hunterdon central</cp:lastModifiedBy>
  <dcterms:modified xsi:type="dcterms:W3CDTF">2010-07-26T02:13:30Z</dcterms:modified>
  <cp:revision>10</cp:revision>
  <dc:subject/>
  <dc:title>The Six Traits of Writing</dc:title>
</cp:coreProperties>
</file>